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36C-23C5-46C8-ACFC-476563A2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1B2-7582-49A3-8327-B648FD24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E00-0FE9-4DE2-876E-44A7240E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52F-15AC-4F89-AC52-C12DA4C8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722-6665-4480-9D6B-644BF2B1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03F-8A6E-4B70-B92A-4687AD32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B02-5807-418A-BE34-DD708B92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553-EF12-415E-B8B0-E6562804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1AC-6DA8-4294-8647-3DF82D82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AAD-C630-4400-BA79-4668E4CA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564-B49A-4B42-96C8-A870EA9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0E9-EAD5-46F4-BAEB-D04892C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2ADF-DF0D-4EA4-8311-4BC53815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Ь К УСПЕ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8 из 9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чества родителей, способных воспитать успешного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Способность выявить возможности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Умение создавать условия для всестороннего развития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Терпимость к своему ребё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Способность быть прим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Умение поощрять, корректировать и тактично направлять действ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Быть в контакте с социумом ребёнка (школа, друзья, знакомые, учител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цепт воспитания успешного ученик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ьмите         Терпения, влейте туда полное          Любви, бросьте две пригоршни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Щедр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лесните туда же </a:t>
            </a: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Юмо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осыпьте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Доброт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добавьте как можно больше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ер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Надеж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сё хорошо перемешайте. Затем полученный состав положите на отрезок отведенной вам жизни и щедро делитесь со всеми окружающими вас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Red Hearts Holidays Desktop Hd Cool Tattoos"/>
          <p:cNvPicPr/>
          <p:nvPr/>
        </p:nvPicPr>
        <p:blipFill>
          <a:blip r:embed="rId2"/>
          <a:stretch/>
        </p:blipFill>
        <p:spPr>
          <a:xfrm>
            <a:off x="2484360" y="2060640"/>
            <a:ext cx="1008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58920" y="2276640"/>
            <a:ext cx="8785080" cy="2303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росайте своих детей, поставьте реальную ц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ите им взобраться на вершину успе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10 класс"/>
          <p:cNvPicPr/>
          <p:nvPr/>
        </p:nvPicPr>
        <p:blipFill>
          <a:blip r:embed="rId1"/>
          <a:stretch/>
        </p:blipFill>
        <p:spPr>
          <a:xfrm>
            <a:off x="324000" y="422100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29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ник – учитель – род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Лента записей из дневника блогера CrazyLog.co.ua. Страница 45 :: BlogRider.ru"/>
          <p:cNvPicPr/>
          <p:nvPr/>
        </p:nvPicPr>
        <p:blipFill>
          <a:blip r:embed="rId1"/>
          <a:stretch/>
        </p:blipFill>
        <p:spPr>
          <a:xfrm>
            <a:off x="1116000" y="1700280"/>
            <a:ext cx="5977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питание – дело трудное, и улучшение его условий – одна из священных обязанностей каждого человека, ибо нет ничего более важного, как образование самого себя и своих ближних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24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ите фраз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Мой ребенок...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708280"/>
          <a:ext cx="8229600" cy="341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4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е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внимателен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30480" cy="1411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305080" cy="289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440" y="1556640"/>
            <a:ext cx="652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-я — те, которые вас устраивают в вашем ребе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133000"/>
            <a:ext cx="6131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-я — те, которые вы бы хотели изменить в 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27120" y="2009880"/>
            <a:ext cx="4240440" cy="3671280"/>
            <a:chOff x="2427120" y="2009880"/>
            <a:chExt cx="4240440" cy="3671280"/>
          </a:xfrm>
        </p:grpSpPr>
        <p:sp>
          <p:nvSpPr>
            <p:cNvPr id="58" name="_s38920"/>
            <p:cNvSpPr/>
            <p:nvPr/>
          </p:nvSpPr>
          <p:spPr>
            <a:xfrm flipV="1">
              <a:off x="3840120" y="200988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амые лучш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чественные тов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8921"/>
            <p:cNvSpPr/>
            <p:nvPr/>
          </p:nvSpPr>
          <p:spPr>
            <a:xfrm flipV="1">
              <a:off x="3133800" y="323388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ычные товары средней це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 ка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8922"/>
            <p:cNvSpPr/>
            <p:nvPr/>
          </p:nvSpPr>
          <p:spPr>
            <a:xfrm flipV="1">
              <a:off x="2427120" y="4457160"/>
              <a:ext cx="4240440" cy="1223640"/>
            </a:xfrm>
            <a:custGeom>
              <a:avLst/>
              <a:gdLst>
                <a:gd name="textAreaLeft" fmla="*/ 736200 w 4240440"/>
                <a:gd name="textAreaRight" fmla="*/ 3504240 w 4240440"/>
                <a:gd name="textAreaTop" fmla="*/ 212400 h 1223640"/>
                <a:gd name="textAreaBottom" fmla="*/ 101124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заведомым браком, низкого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43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оведь дл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родителей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терпимости, он учится понимать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хвалят, он учится быть благоро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безопасности, он учится верить в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поддерживают, он учится цени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живет в понимании и дружелюбии, он учится находить любовь в это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D00019_"/>
          <p:cNvPicPr/>
          <p:nvPr/>
        </p:nvPicPr>
        <p:blipFill>
          <a:blip r:embed="rId1"/>
          <a:stretch/>
        </p:blipFill>
        <p:spPr>
          <a:xfrm>
            <a:off x="6300720" y="260280"/>
            <a:ext cx="20322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спех- это умение добиваться поставленных целей, получая от этого удовольств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нно эффективное  приме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й и умений делает ученика успеш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Картинка 1 из 9"/>
          <p:cNvPicPr/>
          <p:nvPr/>
        </p:nvPicPr>
        <p:blipFill>
          <a:blip r:embed="rId1"/>
          <a:stretch/>
        </p:blipFill>
        <p:spPr>
          <a:xfrm>
            <a:off x="3780000" y="1700280"/>
            <a:ext cx="5184720" cy="475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Что необходимо родителям и учителям, чтобы воспитать успешного уче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ими качествами должны обладать  учителя, чтобы воспитать успешного ученика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Фото на тему 6класс по математике смешные истории. - 22 Января 2014 - Blog - Mobirostov"/>
          <p:cNvPicPr/>
          <p:nvPr/>
        </p:nvPicPr>
        <p:blipFill>
          <a:blip r:embed="rId1"/>
          <a:stretch/>
        </p:blipFill>
        <p:spPr>
          <a:xfrm>
            <a:off x="539640" y="1413000"/>
            <a:ext cx="4038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еобходимо  учителю, чтобы создать успешного уче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Чётко управлять учебным процессом и внеурочной деятельностью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Хорошо знать и любить свой пред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Уметь терпеть, сдерживаться, не раздражаться, ждать, когда ученики будут делать так, как он планирует. Учить, предпочитая тёплое, человеческое общение с уче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Быть всегда организованным, собранным, активным, энергичным, подготовленным к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Считать своей главной задачей внимание к личности ученика, обеспечение его индивидуального развития, обучения,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Владеть образовательными технологиями, уметь объяснять, спрашивать, организовывать работу учеников, применяя разные мет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57:39Z</dcterms:created>
  <dc:creator>Admin</dc:creator>
  <dc:description/>
  <dc:language>en-US</dc:language>
  <cp:lastModifiedBy>сергей</cp:lastModifiedBy>
  <dcterms:modified xsi:type="dcterms:W3CDTF">2014-12-13T07:28:46Z</dcterms:modified>
  <cp:revision>11</cp:revision>
  <dc:subject/>
  <dc:title>Родительское собрание</dc:title>
</cp:coreProperties>
</file>